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90403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85F7-7F74-47D7-BB11-389415A9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B28E-8FCA-4045-BF41-864A09FC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31BB-832A-4B28-8EB2-A8308777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5B9C-0F92-42AA-AF4F-23FD98FF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1708-9C9C-488B-86B3-B6BE64F2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FBBC-9572-4608-9581-D6FD0034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2815-0A51-45FE-ABFC-D5921ACB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D316-704D-4238-8F2F-CC2326ED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F1FA-0627-4321-919F-A095F929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76E3-3EF4-4F19-AD12-1FBF43F5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63F2-D3CF-40AF-B64D-2AF69901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AE58-A39C-4FBE-9DFE-9D4DDE9D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8B92-F39A-46F2-966F-1C3050B02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8400" y="546120"/>
            <a:ext cx="77472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2133720"/>
            <a:ext cx="5562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Purchasing Proc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639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4B92-598E-42E4-99CA-341BFD71D4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rganization’s Supply Chai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229600" cy="446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5EA9-DAEA-424D-B888-88DDB57755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urchasing and the Supply Chai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pply chain is the system of adding value beginning with acquiring raw materials (purchasing) and ending with product fiel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s attempt to achieve maximum value added in all the supply chain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purchases are driving down purchasing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y chain management (SCM) software assists with demand planning, one of the most important areas of supply chai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4B05-F45A-4CB8-B1C6-97E72C7C7F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2 categories of SCM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pply chain plan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mulates data about orders from retail customers, sales from retail outlets, and data about manufacturing and delivery capability to assist in planning for each of the SCM st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pply chain execu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C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R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is assigned to this category as it receives customer orders, routes orders to an appropriate warehouse, and executes the invoice for the sa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of the connections between players in the supply chain are B2B automated interfa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the sourcing step may be implemented through an automatic order sent to a supplier via the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1A37-3B6A-4D0F-AEE6-73DF7B70A8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Benefits of Managing the Supply Chai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costs to the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availability of produ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response to customer request for product customization and other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inventories along the supply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relationships between buyers and se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oth workloads due to planned goods arrivals and departures, leading to reduced overtim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item costs as a result of planned purchases through contracts and other arran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customer orders due to improved customer respons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product defects through specifying quality during planning and sharing defect information with suppliers during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C9C8-1D9D-4B54-AF61-46732DF403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ings that can go wrong in SCM initiatives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not collected or not shared across functional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sharing of information between supply chain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ccurate data in the supply chain negatively affects the entire ch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-reliance on demand forecasting that may be in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demand forecasting requires an intelligent combination of software tools and human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ng objectives can lead to unrealistic foreca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ing may want a high target to ensure a successful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y be unreal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 promotion and production budgets will be inaccur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es, on the other hand, will be evaluated on its ability to meet sales quotas and wants a lower demand foreca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5B6D-1BD5-4C02-A01E-A8F2A7BADD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Mitigating problems with SCM Initiatives 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Summary 1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Collaboration in the Supply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P: Continuous Replenishment also calle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MI Vendor Managed Inven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I Supplier Managed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managed 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orm of C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AR: Collaborative Forecasting and Replenishment (precursor to CPF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FR: Collaborative Planning Forecasting and Replenis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0527-8D4A-444B-81A5-C8BAD042EE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Mitigating problems with SCM Initiatives 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Summary 12.3: CPF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382240" cy="411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FABB-FAD5-4093-B5AE-FB01D3B180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urchasing Process—Context Diagram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001000" cy="437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AD32-5724-484B-AD12-F46321DD2D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ventory Reorder Method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order point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item is assigned a reorder point based on its sales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order quant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quantity based on costs of ordering and carrying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 analysis a technique for ranking items in a group based on the output of the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 analysis can be used to categorize inventory items according to their impor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8B87-676E-4473-81AA-54E1A6BFAB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urchasing Process—Level 0 Diagram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405480" cy="584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0945-67DE-4AC1-AEBC-B5C798799E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 the definition and basic functions of the purchasing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stand the relationship between the purchasing and its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e a reasonable understanding of the logical and physical characteristics of a typical purchas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ome familiar with some of the technology used to implement the purchas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 some process controls and the plans used to control a typical purchas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2362320"/>
            <a:ext cx="2667240" cy="2666880"/>
          </a:xfrm>
          <a:prstGeom prst="flowChartConnector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rchas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763120" cy="3903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E2A6-B89E-4A6E-A71B-B2D524349D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734320" cy="477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2F30-8EBB-4214-B0D5-74470B13B7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5343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C380-C635-4CDF-8556-2EB391FEC3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ata Stores Used in the Purchasing Proces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ory mast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cord of each item stocked or regularly orde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 mast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s information about approved vendors including vend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 requisitio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on all purchase requi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 order mast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PO information including status of items on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 receipt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s item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9060-CE58-4A20-BB3C-A22BCDD97D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720" y="1066320"/>
            <a:ext cx="25909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R diagram - Purchasin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2796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B172-9AFB-40C4-9BA3-FC33DA7EFB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urchasing Process Systems Flow Char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 rot="5400000">
            <a:off x="1785960" y="-33120"/>
            <a:ext cx="5486400" cy="753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73F7-94B6-4328-B983-2A2FBE1171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urchasing Process Systems Flow Chart, Cont’d.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 rot="5400000">
            <a:off x="1761840" y="142560"/>
            <a:ext cx="5476680" cy="762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FA0F-CBF1-4D56-885B-A001C4759A7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Fraud and the Purchasing Func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frauds involve manipulation of purchasing because it involves the payment of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ypical cases included in this category of process exploitation are instances in whi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mployee (e.g., a buyer, purchasing manager, or other person) places purchase orders with a particular vendor in exchange for a kickback, secret commission, or other form of inducement from the ven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mployee ha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flict of inter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his responsibilities to his employer and his financial interest—direct or indirect—in a company with whom the employer does busi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D9A2-8DB3-4425-857F-F1081BD8C1E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urchasing Control Matrix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880" y="914400"/>
          <a:ext cx="8382240" cy="4816440"/>
        </p:xfrm>
        <a:graphic>
          <a:graphicData uri="http://schemas.openxmlformats.org/drawingml/2006/table">
            <a:tbl>
              <a:tblPr/>
              <a:tblGrid>
                <a:gridCol w="2293920"/>
                <a:gridCol w="441360"/>
                <a:gridCol w="422280"/>
                <a:gridCol w="393840"/>
                <a:gridCol w="593640"/>
                <a:gridCol w="576360"/>
                <a:gridCol w="458640"/>
                <a:gridCol w="393840"/>
                <a:gridCol w="423720"/>
                <a:gridCol w="347760"/>
                <a:gridCol w="441360"/>
                <a:gridCol w="396720"/>
                <a:gridCol w="331920"/>
                <a:gridCol w="426960"/>
                <a:gridCol w="4399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oals of the Purchasing Business Proce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oals of the Operations Proce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oals of the Information Proce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ure effectiveness of operations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ure efficient employ-ment of resourc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ure security of resourc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purchase order inputs (i.e., requisitions), ensure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purchase order and inventory master  data, ensure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vendor packing slip inputs, ensure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purchase order and inventory master data, ensure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mmended control pla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 Contro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1:  Approve purchase requi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2:  Use authorized vendor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3:  Independent vendor master data maintenan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4:  Compare vendors for favorable price, terms, quality, and product availabi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5:  Approve purchase ord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6:  Confirm purchase order to requesting depart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7:  Automated data ent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8: Independent authorization to record receip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9: Create audit trail for receip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ssing Contro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1:  Count goods and compare to vendor packing sli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2:  Inspect goo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3:  Monitor open purchase ord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3C7B-8D74-4652-A9D0-0EB1A1AA215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ontrol Matrix, Cont’d.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1066680"/>
          <a:ext cx="7772400" cy="5237280"/>
        </p:xfrm>
        <a:graphic>
          <a:graphicData uri="http://schemas.openxmlformats.org/drawingml/2006/table">
            <a:tbl>
              <a:tblPr/>
              <a:tblGrid>
                <a:gridCol w="2243160"/>
                <a:gridCol w="342720"/>
                <a:gridCol w="357480"/>
                <a:gridCol w="306360"/>
                <a:gridCol w="433440"/>
                <a:gridCol w="496800"/>
                <a:gridCol w="304560"/>
                <a:gridCol w="281160"/>
                <a:gridCol w="304920"/>
                <a:gridCol w="331560"/>
                <a:gridCol w="236520"/>
                <a:gridCol w="457200"/>
                <a:gridCol w="457200"/>
                <a:gridCol w="428760"/>
                <a:gridCol w="407880"/>
                <a:gridCol w="382680"/>
              </a:tblGrid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1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oals of the Purchasing Business Pro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oals of the Operations Pro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oals of the Information Pro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ure effectiveness of operations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ure efficient employ-ment of resourc-es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ure security of resources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purchase order inputs (i.e., requisitions), ensure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purchase order and inventory master  data, ensure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vendor packing slip inputs, ensure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purchase order and inventory master data, ensure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mmended control pla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7:  Automated data ent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8: Independent authorization to record recei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9: Create audit trail for recei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ssing Contr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1:  Count goods and compare to vendor packing sl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2:  Inspect go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3:  Monitor open purchase ord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7D7D-29D7-41EA-9A2E-A79B7E17D8A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rocess Definitions and Function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chasing proc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interacting structure of people, equipment, methods, and controls that is designed to accomplish the following primary 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the repetitive work routines of the purchasing department and the receiving de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the decision needs of those who manage the purchasing and receiving de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 in the preparation of internal and external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5EEB-2269-4225-B71C-4000D4D4CD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Internal Perspective of Purchasing Process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2438280"/>
            <a:ext cx="2743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Purchase requisition sent from inventory control department to purchasing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5867280" cy="440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15B9-C7CE-4AAA-9030-B8F4589511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Internal Perspective of Purchasing Process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2209680"/>
            <a:ext cx="259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rchase order sent to vendor (2a), inventory control (or various departments), 2b, receiving (2c), and accounts payable (2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5867280" cy="440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C2CD-EF3A-444A-BBA0-AB483A18F2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Internal Perspective of Purchasing Process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2514600"/>
            <a:ext cx="2743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cking slip (with goods) received from vend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5867280" cy="440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C264-D78E-471B-895B-FB4DAE0D98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Internal Perspective of Purchasing Process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2209680"/>
            <a:ext cx="251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ock notice (with goods) sent to warehou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5867280" cy="440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3641-F3CD-4EBC-A27C-F6E4995FD5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Internal Perspective of Purchasing Process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2514600"/>
            <a:ext cx="2743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ice of receipt sent to accounts payable (5a), general ledger (5b), and purchasing (5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5867280" cy="440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F8E6-2795-4800-95AE-F986844487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oal Conflicts and Ambiguities in the Organiza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managers’ goals may not b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grue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organizational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ing may buy large quantities of inventory for quantity discounts and to reduce ordering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y drive up costs of receiving, inspecting, and carrying inven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iguity often exists in defining goals and success in meeting go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urchasing goals might b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select a vendor who will provide the best quality at the lowest price by the promised delive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stically, one vendor probably will not satisfy all three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zation of goals is necessary in choos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given the various conflicts and constraints placed on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-offs are made in prioritizing among the goals that confl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market is sensitive to satisfying customer needs, the company may pay higher prices to ensure that it is procuring the best quality goods and obtaining them when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1A0C-9039-44CE-9D0D-DF1B88C6F6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2T01:09:01Z</dcterms:created>
  <dc:creator>Curt Westbrook</dc:creator>
  <dc:description/>
  <dc:language>en-US</dc:language>
  <cp:lastModifiedBy> </cp:lastModifiedBy>
  <cp:lastPrinted>1998-08-25T03:17:10Z</cp:lastPrinted>
  <dcterms:modified xsi:type="dcterms:W3CDTF">2007-06-26T15:41:05Z</dcterms:modified>
  <cp:revision>22</cp:revision>
  <dc:subject/>
  <dc:title>Chapter 12</dc:title>
</cp:coreProperties>
</file>